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7E3-3F24-4F75-A263-93918456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B0E-7756-4DBA-85EF-5BEDA72A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37E-40BF-43F3-AC52-BAAB979C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4564-9E8A-4512-AE66-ACCA3095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DA72-6DBE-44FC-A301-9FB20DD7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D37E-BFC4-4057-9DFB-56F6ECFE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35BD-5FF5-4D13-8E51-D96DFE41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85D4-907C-4B3E-8FD8-20073A9C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F8A2-5060-4AD3-836A-59BA3A03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B0E8-1DD2-4567-91FD-3295CC58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E369-C7A5-4CEF-BB45-E90639F0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2FB-1791-43BC-8DB5-32EFE970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03B5-50A6-4FD8-A110-050B5798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F0DA-C5FE-4B2B-9282-0732278C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B23C-6178-472D-99F0-12AED43A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37F2-D908-458A-A21E-F0E5EEC6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987F-73F6-471A-8142-1D2601F9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9B0-532E-4033-9960-9EF5BE53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008-C479-4BFA-B1DB-AB0AA60D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95E-6561-4301-AFD4-46499ACE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598-0F2E-42F3-B723-A604BF85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3E7-9320-4CB5-8459-F11AC440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C59-D19C-4100-A04B-B2A476A0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358-5CC3-4CDF-A382-A4E76741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7BFC-F148-453B-BFAC-0EA1E3C35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6BB5-7A3E-4064-AD2A-85CF0BD63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a26d18"/>
                </a:solidFill>
                <a:latin typeface="Times New Roman"/>
              </a:rPr>
              <a:t>APARIŢIA ŞI RĂSPÂNDIREA CREŞTINISMULUI</a:t>
            </a: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a26d18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a26d18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a26d18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5840" y="3736440"/>
            <a:ext cx="678024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09880" y="3166920"/>
            <a:ext cx="5924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daptat după Manualul de Istorie, clasa a V-a, Zoe Petre, 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Examenul de bacalaureat 2012</a:t>
            </a:r>
            <a:br>
              <a:rPr sz="1000"/>
            </a:b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Proba de evaluare a competenţelor digitale</a:t>
            </a:r>
            <a:r>
              <a:rPr b="1" lang="en-US" sz="1000" spc="-1" strike="noStrike">
                <a:solidFill>
                  <a:srgbClr val="a26d18"/>
                </a:solidFill>
                <a:latin typeface="Times New Roman"/>
              </a:rPr>
              <a:t> – document de lucru</a:t>
            </a:r>
            <a:br>
              <a:rPr sz="4000"/>
            </a:br>
            <a:endParaRPr b="1" lang="en-US" sz="1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49731" t="19594" r="-39775" b="15616"/>
          <a:stretch/>
        </p:blipFill>
        <p:spPr>
          <a:xfrm>
            <a:off x="6705720" y="1828800"/>
            <a:ext cx="3259080" cy="2344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Examenul de bacalaureat 2012</a:t>
            </a:r>
            <a:br>
              <a:rPr sz="1000"/>
            </a:b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Proba de evaluare a competenţelor digitale</a:t>
            </a:r>
            <a:r>
              <a:rPr b="1" lang="en-US" sz="1000" spc="-1" strike="noStrike">
                <a:solidFill>
                  <a:srgbClr val="a26d18"/>
                </a:solidFill>
                <a:latin typeface="Times New Roman"/>
              </a:rPr>
              <a:t> – document de lucru</a:t>
            </a:r>
            <a:br>
              <a:rPr sz="4000"/>
            </a:br>
            <a:endParaRPr b="1" lang="en-US" sz="1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3a3</cp:lastModifiedBy>
  <dcterms:modified xsi:type="dcterms:W3CDTF">2012-06-19T11:02:26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